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0C6-788A-4324-A6D9-E752C43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350-9CAF-4218-B46B-F1EE44AA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7AB-1C6A-4A99-A719-C96D5E68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A99-3D0F-45E5-8138-1D01BBA9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DE6-127B-4C77-88B0-3972709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B7D-B723-49F2-8417-770C286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49C-015E-4B93-967C-CFCAA92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EC8-B3B9-4573-B3F5-C818FCE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C36-5C73-4B19-B853-86B48E0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E7E-27C7-4D38-9B36-DA28C8EA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170-2A0A-437F-9883-8114D62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350-333F-42E0-8570-60BF38E9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9BB-D6BB-415A-AF6C-32E2F99B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3520" y="2133720"/>
            <a:ext cx="8280360" cy="65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候课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保持安静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坐姿端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准备好学习用具                                                 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（课本，练习本，红笔，黑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预习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元 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时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u=1627566408,1582199297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28240"/>
            <a:ext cx="9144000" cy="64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讨论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针对迁移运用，以小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组为单位来讨论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组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注意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速度和效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：站姿端正，声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洪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当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大意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理解的做题技巧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" y="1440"/>
            <a:ext cx="95979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楷体"/>
              </a:rPr>
              <a:t>当堂检测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桌面清理干净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不讨论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抄袭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书写规范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限时独立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真完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时间：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分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611280" y="189000"/>
            <a:ext cx="914400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: Hi , Jane. Where did you go 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acation last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Jane: I _______ to Penang in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a: Who ______ you go with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ane: I went with my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a: What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340000" y="2637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57960" y="2565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lays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987640" y="3213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859280" y="364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57120" y="214200"/>
            <a:ext cx="850104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Jane: The weather was hot and _______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nday, so we went ___________ on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n in the afternoon, we _______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icycl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eorgetow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a: Sounds g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ane: Well, but the next day was not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as goo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. My _________ and I went to Penang Hill , but the weather _____really bad and rainy. We _________a long time for the train and we were _____ and cold because w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forgot to bring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867280" y="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067280" y="76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gli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03640" y="1557360"/>
            <a:ext cx="27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763640" y="3573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132000" y="4005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116000" y="4437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50920" y="4869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627280" y="5229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mbr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57120" y="214200"/>
            <a:ext cx="85010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nna: Oh,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Jane: And that’s not all!  We also didn’t bring _______ money, so we only had one bowl of rice and some f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851280" y="206064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n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201240" cy="86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agine  Jane went to Penang again and had a great day.  Fill in the blanks in her diary entries with the correct forms of the verbs in br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ursday , July 18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oday ______ (be)a beautiful day. My father and I _______ (go) to Pen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692360" y="314172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708360" y="414972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189000"/>
            <a:ext cx="9429840" cy="10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ll again, but this time we_______(walk) to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______ (start) at 9:30 a.m. and _______(see) 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special Malaysian flowers along the way.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e hour later, we ______(stop) and _______ (drin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tea.Then we ______ (walk) for anoth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urs before we _____ (get) to the top. I _____ (b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uite tired, and the city _______ (look) wonderful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op of the hi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43280" y="0"/>
            <a:ext cx="27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11280" y="76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156360" y="69228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059280" y="20606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sto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156360" y="220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dr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059280" y="28526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987640" y="364500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804000" y="357336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924360" y="4292640"/>
            <a:ext cx="278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017760" y="404640"/>
            <a:ext cx="219132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激情小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952cf268ba70846a"/>
          <p:cNvPicPr/>
          <p:nvPr/>
        </p:nvPicPr>
        <p:blipFill>
          <a:blip r:embed="rId1"/>
          <a:stretch/>
        </p:blipFill>
        <p:spPr>
          <a:xfrm>
            <a:off x="324000" y="271440"/>
            <a:ext cx="6372000" cy="658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677960" y="-449280"/>
            <a:ext cx="7466040" cy="55548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Thank you for listening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635280" y="620640"/>
            <a:ext cx="321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Unit 1   1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47640" y="134136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Where did you go on va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040" y="3232080"/>
            <a:ext cx="66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Learning aim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Can understand the main meaning of the pass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Can answer the questions correctl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了解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through the article and answer the question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快速浏览文章，并回答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zh-CN" sz="4800" spc="-1" strike="noStrike">
                <a:solidFill>
                  <a:srgbClr val="000099"/>
                </a:solidFill>
                <a:latin typeface="Arial"/>
              </a:rPr>
              <a:t>You are the best !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260280"/>
            <a:ext cx="8072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d Jane have a good time on Mo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at about Tues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 flipV="1" rot="10800000">
            <a:off x="684000" y="1557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e di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971640" y="378936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t was terri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04640" y="1047600"/>
            <a:ext cx="3513240" cy="8251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</a:rPr>
              <a:t>深入学习</a:t>
            </a:r>
            <a:r>
              <a:rPr b="0" lang="zh-CN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4680" y="2373480"/>
            <a:ext cx="837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the article again, finish the char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0047271121061117"/>
          <p:cNvPicPr/>
          <p:nvPr/>
        </p:nvPicPr>
        <p:blipFill>
          <a:blip r:embed="rId1"/>
          <a:stretch/>
        </p:blipFill>
        <p:spPr>
          <a:xfrm>
            <a:off x="372960" y="5799240"/>
            <a:ext cx="77724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990720"/>
          <a:ext cx="8329680" cy="55623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919600"/>
              </a:tblGrid>
              <a:tr h="199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Jane did or s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she like it ?( Yes / No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 or why no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ed paragli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were deliciou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73"/>
          <p:cNvSpPr/>
          <p:nvPr/>
        </p:nvSpPr>
        <p:spPr>
          <a:xfrm>
            <a:off x="5688000" y="3141720"/>
            <a:ext cx="34560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cause she fe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ke she was a bi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324000" y="0"/>
            <a:ext cx="967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d Jane’s diary entries again. Fill in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3"/>
          <p:cNvSpPr/>
          <p:nvPr/>
        </p:nvSpPr>
        <p:spPr>
          <a:xfrm>
            <a:off x="4067280" y="32130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3"/>
          <p:cNvSpPr/>
          <p:nvPr/>
        </p:nvSpPr>
        <p:spPr>
          <a:xfrm>
            <a:off x="539640" y="479736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Malaysian yellow noo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3"/>
          <p:cNvSpPr/>
          <p:nvPr/>
        </p:nvSpPr>
        <p:spPr>
          <a:xfrm>
            <a:off x="4191120" y="495288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457200"/>
          <a:ext cx="8610480" cy="6248520"/>
        </p:xfrm>
        <a:graphic>
          <a:graphicData uri="http://schemas.openxmlformats.org/drawingml/2006/table">
            <a:tbl>
              <a:tblPr/>
              <a:tblGrid>
                <a:gridCol w="3581280"/>
                <a:gridCol w="1295640"/>
                <a:gridCol w="3733560"/>
              </a:tblGrid>
              <a:tr h="19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ked around Georgetow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 to Penang Hill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asted great because she was hungry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73"/>
          <p:cNvSpPr/>
          <p:nvPr/>
        </p:nvSpPr>
        <p:spPr>
          <a:xfrm>
            <a:off x="4114800" y="29718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3"/>
          <p:cNvSpPr/>
          <p:nvPr/>
        </p:nvSpPr>
        <p:spPr>
          <a:xfrm>
            <a:off x="3962520" y="91440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5424480" y="333360"/>
            <a:ext cx="37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she could think the life the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3"/>
          <p:cNvSpPr/>
          <p:nvPr/>
        </p:nvSpPr>
        <p:spPr>
          <a:xfrm>
            <a:off x="5148360" y="234936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it’s raining and they didn’t take an umbr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3"/>
          <p:cNvSpPr/>
          <p:nvPr/>
        </p:nvSpPr>
        <p:spPr>
          <a:xfrm>
            <a:off x="395280" y="458136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a bowl of rice and som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3"/>
          <p:cNvSpPr/>
          <p:nvPr/>
        </p:nvSpPr>
        <p:spPr>
          <a:xfrm>
            <a:off x="4067280" y="5229360"/>
            <a:ext cx="365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u=1627566408,1582199297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228240"/>
            <a:ext cx="9144000" cy="64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迁移运用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  <a:ea typeface="楷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认真完成迁移运用当中的题，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分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07:27:58Z</dcterms:created>
  <dc:creator>微软用户</dc:creator>
  <dc:description/>
  <dc:language>en-US</dc:language>
  <cp:lastModifiedBy>Administrator</cp:lastModifiedBy>
  <dcterms:modified xsi:type="dcterms:W3CDTF">2018-06-24T23:33:38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NXTAG2">
    <vt:lpwstr>000800a208000000000001024120</vt:lpwstr>
  </property>
</Properties>
</file>